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1A35-73FD-4319-BB2C-44D42101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2D2D-5916-486D-A3A5-DDDD6166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811C-83D6-4E67-BB0D-047B0D97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476C-896B-4BE9-984F-5DBA6F01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9C11-5F91-4895-BB36-7EFFBC9E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F6C2-CF97-4F0F-ABB1-1AD316CE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43A-6723-4981-AF7D-F7901E4D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B0E-7E53-40FC-B956-F236028F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2168-C846-4534-80D6-DB4D23E6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29C8-59F2-4021-894A-68D5D86B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57E-3A6B-443F-B698-8313811F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38A-DEF8-4FB8-A507-8A62CCCB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1848-BE59-4E58-8A86-1A2250A44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electroniclearner.wikispaces.com/home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mrsanderson10.pbworks.com/w/page/33263525/FrontPage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278mathwiki.wikispaces.com/home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educationalwikis.wikispaces.com/Examples+of+educational+wikis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302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90920" y="2133720"/>
            <a:ext cx="37335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k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781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oper Black"/>
              </a:rPr>
              <a:t>A website that can be collaboratively ed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90920" y="2133720"/>
            <a:ext cx="37335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Wik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 advTm="12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df35d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# of Wikis: Raising B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80880" y="6324480"/>
            <a:ext cx="8458200" cy="381240"/>
            <a:chOff x="380880" y="6324480"/>
            <a:chExt cx="8458200" cy="381240"/>
          </a:xfrm>
        </p:grpSpPr>
        <p:sp>
          <p:nvSpPr>
            <p:cNvPr id="71" name=""/>
            <p:cNvSpPr/>
            <p:nvPr/>
          </p:nvSpPr>
          <p:spPr>
            <a:xfrm>
              <a:off x="380880" y="6324480"/>
              <a:ext cx="1143000" cy="381240"/>
            </a:xfrm>
            <a:prstGeom prst="rect">
              <a:avLst/>
            </a:prstGeom>
            <a:solidFill>
              <a:srgbClr val="df35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00200" y="6324480"/>
              <a:ext cx="1143000" cy="381240"/>
            </a:xfrm>
            <a:prstGeom prst="rect">
              <a:avLst/>
            </a:prstGeom>
            <a:solidFill>
              <a:srgbClr val="df35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19520" y="6324480"/>
              <a:ext cx="1143000" cy="381240"/>
            </a:xfrm>
            <a:prstGeom prst="rect">
              <a:avLst/>
            </a:prstGeom>
            <a:solidFill>
              <a:srgbClr val="df35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38480" y="6324480"/>
              <a:ext cx="1143000" cy="381240"/>
            </a:xfrm>
            <a:prstGeom prst="rect">
              <a:avLst/>
            </a:prstGeom>
            <a:solidFill>
              <a:srgbClr val="df35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57800" y="6324480"/>
              <a:ext cx="1143000" cy="381240"/>
            </a:xfrm>
            <a:prstGeom prst="rect">
              <a:avLst/>
            </a:prstGeom>
            <a:solidFill>
              <a:srgbClr val="df35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77120" y="6324480"/>
              <a:ext cx="1143000" cy="381240"/>
            </a:xfrm>
            <a:prstGeom prst="rect">
              <a:avLst/>
            </a:prstGeom>
            <a:solidFill>
              <a:srgbClr val="df35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96080" y="6324480"/>
              <a:ext cx="1143000" cy="381240"/>
            </a:xfrm>
            <a:prstGeom prst="rect">
              <a:avLst/>
            </a:prstGeom>
            <a:solidFill>
              <a:srgbClr val="df35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267080" y="4038480"/>
            <a:ext cx="685800" cy="2210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65760" y="36752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35d3"/>
                </a:solidFill>
                <a:latin typeface="Arial"/>
              </a:rPr>
              <a:t>39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10080" y="1447920"/>
            <a:ext cx="685800" cy="4800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81840" y="11174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f35d3"/>
                </a:solidFill>
                <a:latin typeface="Arial"/>
              </a:rPr>
              <a:t>9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loud"/>
          <p:cNvSpPr/>
          <p:nvPr/>
        </p:nvSpPr>
        <p:spPr>
          <a:xfrm>
            <a:off x="533520" y="1600200"/>
            <a:ext cx="3962160" cy="2295360"/>
          </a:xfrm>
          <a:prstGeom prst="pie">
            <a:avLst/>
          </a:prstGeom>
          <a:solidFill>
            <a:srgbClr val="a5d2d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oper Black"/>
              </a:rPr>
              <a:t>wikispaces.com statistic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newsflash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# of Users: Raising B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80880" y="6324480"/>
            <a:ext cx="8458200" cy="381240"/>
            <a:chOff x="380880" y="6324480"/>
            <a:chExt cx="8458200" cy="381240"/>
          </a:xfrm>
        </p:grpSpPr>
        <p:sp>
          <p:nvSpPr>
            <p:cNvPr id="85" name=""/>
            <p:cNvSpPr/>
            <p:nvPr/>
          </p:nvSpPr>
          <p:spPr>
            <a:xfrm>
              <a:off x="380880" y="6324480"/>
              <a:ext cx="1143000" cy="381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00200" y="6324480"/>
              <a:ext cx="1143000" cy="381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19520" y="6324480"/>
              <a:ext cx="1143000" cy="381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8480" y="6324480"/>
              <a:ext cx="1143000" cy="381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57800" y="6324480"/>
              <a:ext cx="1143000" cy="381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77120" y="6324480"/>
              <a:ext cx="1143000" cy="381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96080" y="6324480"/>
              <a:ext cx="1143000" cy="381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267080" y="4038480"/>
            <a:ext cx="685800" cy="2210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5760" y="36752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35d3"/>
                </a:solidFill>
                <a:latin typeface="Arial"/>
              </a:rPr>
              <a:t>92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1447920"/>
            <a:ext cx="685800" cy="4800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111744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f35d3"/>
                </a:solidFill>
                <a:latin typeface="Arial"/>
              </a:rPr>
              <a:t>22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loud"/>
          <p:cNvSpPr/>
          <p:nvPr/>
        </p:nvSpPr>
        <p:spPr>
          <a:xfrm>
            <a:off x="228600" y="1447920"/>
            <a:ext cx="419112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35d3"/>
                </a:solidFill>
                <a:latin typeface="Arial"/>
              </a:rPr>
              <a:t>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35d3"/>
                </a:solidFill>
                <a:latin typeface="Arial"/>
              </a:rPr>
              <a:t>Statistic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newsflash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362320" y="2286000"/>
            <a:ext cx="46958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rom New Zea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3048120"/>
            <a:ext cx="56390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Cooper Black"/>
                <a:hlinkClick r:id="rId2"/>
              </a:rPr>
              <a:t>To explore, Click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8915400" cy="6248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52480" y="6019920"/>
            <a:ext cx="4800600" cy="5770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oper Black"/>
                <a:hlinkClick r:id="rId2"/>
              </a:rPr>
              <a:t>To explore, Click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3886200" y="1752480"/>
            <a:ext cx="2457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th Wiki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3429000"/>
            <a:ext cx="28195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Cooper Black"/>
                <a:hlinkClick r:id="rId2"/>
              </a:rPr>
              <a:t>Click here to Expl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648320" cy="3481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0" y="228600"/>
            <a:ext cx="39625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oper Black"/>
              </a:rPr>
              <a:t>Wiki in K12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76720" y="228240"/>
            <a:ext cx="5486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mentary, Middle and High Schools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ary, Middle and High Schools, Wiki can be used in any environ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ki's are protected and safe for k12 u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 can handle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at the sampl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ck the samp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t an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1066680"/>
            <a:ext cx="8096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ncerns about how to create?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62120" y="2933640"/>
            <a:ext cx="8096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ont worry ; Let's Tr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4343400"/>
            <a:ext cx="8096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 can help 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2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cc"/>
                </a:solidFill>
                <a:latin typeface="Cooper Black"/>
              </a:rPr>
              <a:t>Collaborate? Why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4124160" cy="3838680"/>
          </a:xfrm>
          <a:prstGeom prst="rect">
            <a:avLst/>
          </a:prstGeom>
          <a:ln w="0">
            <a:noFill/>
          </a:ln>
        </p:spPr>
      </p:pic>
      <p:pic>
        <p:nvPicPr>
          <p:cNvPr id="46" name="apple-ipad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3648240" cy="4114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320" y="6172200"/>
            <a:ext cx="8991360" cy="609480"/>
          </a:xfrm>
          <a:prstGeom prst="rect">
            <a:avLst/>
          </a:prstGeom>
          <a:solidFill>
            <a:srgbClr val="ffd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14b25"/>
                </a:solidFill>
                <a:latin typeface="Arial Narrow"/>
              </a:rPr>
              <a:t>Lets look at 2 great examples of collaborative eff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In the communication age Collaboration is the key to succ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in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00"/>
            </a:gs>
            <a:gs pos="50000">
              <a:srgbClr val="cccc00"/>
            </a:gs>
            <a:gs pos="100000">
              <a:srgbClr val="5e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Cooper Black"/>
              </a:rPr>
              <a:t>Collaboration in K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ab_01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6096240" cy="4086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05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Comic Sans MS"/>
              </a:rPr>
              <a:t>Team work, makes the dream 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b0a"/>
            </a:gs>
            <a:gs pos="50000">
              <a:srgbClr val="ffb343"/>
            </a:gs>
            <a:gs pos="100000">
              <a:srgbClr val="271b0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4400" y="213372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t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as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ui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nd Free too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95280" y="533520"/>
            <a:ext cx="64771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ffdaa3"/>
                </a:soli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Why Wiki??</a:t>
            </a:r>
            <a:endParaRPr b="0" lang="en-US" sz="1800" spc="1" strike="noStrike">
              <a:ln w="38160">
                <a:solidFill>
                  <a:srgbClr val="ff3300"/>
                </a:solidFill>
                <a:miter/>
              </a:ln>
              <a:solidFill>
                <a:srgbClr val="ffdaa3"/>
              </a:soli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2000">
    <p:circl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14400" y="228600"/>
            <a:ext cx="7162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ffdaa3"/>
                </a:soli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What does it need?</a:t>
            </a:r>
            <a:endParaRPr b="0" lang="en-US" sz="1800" spc="1" strike="noStrike">
              <a:ln w="38160">
                <a:solidFill>
                  <a:srgbClr val="333399"/>
                </a:solidFill>
                <a:miter/>
              </a:ln>
              <a:solidFill>
                <a:srgbClr val="ffdaa3"/>
              </a:soli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5" name="320px-Computer-aj_aj_ashton_01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6" name="Network-Internet-Connection-icon" descr=""/>
          <p:cNvPicPr/>
          <p:nvPr/>
        </p:nvPicPr>
        <p:blipFill>
          <a:blip r:embed="rId2"/>
          <a:stretch/>
        </p:blipFill>
        <p:spPr>
          <a:xfrm>
            <a:off x="2666880" y="2438280"/>
            <a:ext cx="3353040" cy="3353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838080" y="5514840"/>
            <a:ext cx="8001000" cy="1343160"/>
          </a:xfrm>
          <a:prstGeom prst="rect">
            <a:avLst/>
          </a:prstGeom>
          <a:ln w="0">
            <a:noFill/>
          </a:ln>
        </p:spPr>
      </p:pic>
      <p:pic>
        <p:nvPicPr>
          <p:cNvPr id="58" name="Web-Browsers" descr=""/>
          <p:cNvPicPr/>
          <p:nvPr/>
        </p:nvPicPr>
        <p:blipFill>
          <a:blip r:embed="rId4"/>
          <a:stretch/>
        </p:blipFill>
        <p:spPr>
          <a:xfrm>
            <a:off x="6095880" y="1981080"/>
            <a:ext cx="3048120" cy="28735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amond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oper Black"/>
              </a:rPr>
              <a:t>A brief history of wi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9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d Cunn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arch 25, 199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 (Hawaiian w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 Qu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: To collaborate softwar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391px-%22Brion%22_and_Ward-edited" descr="File:&quot;Brion&quot; and Ward-edited.jpg"/>
          <p:cNvPicPr/>
          <p:nvPr/>
        </p:nvPicPr>
        <p:blipFill>
          <a:blip r:embed="rId5"/>
          <a:stretch/>
        </p:blipFill>
        <p:spPr>
          <a:xfrm>
            <a:off x="5181480" y="914400"/>
            <a:ext cx="3724560" cy="57056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zoom dir="in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962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67480" cy="4911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8534520" cy="4038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04920" y="1295280"/>
            <a:ext cx="8610480" cy="5061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124000" y="2057400"/>
            <a:ext cx="7020000" cy="4495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0" y="2362320"/>
            <a:ext cx="8991720" cy="44956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newsflash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2:46:16Z</dcterms:created>
  <dc:creator>ABC</dc:creator>
  <dc:description/>
  <dc:language>en-US</dc:language>
  <cp:lastModifiedBy>ABC</cp:lastModifiedBy>
  <dcterms:modified xsi:type="dcterms:W3CDTF">2011-10-21T03:45:21Z</dcterms:modified>
  <cp:revision>22</cp:revision>
  <dc:subject/>
  <dc:title>Wiki By Anwar</dc:title>
</cp:coreProperties>
</file>